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235-755B-482E-B8A1-4263FCAE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46A-24B8-434E-BBBA-B362323B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71D78-AD8C-4AC0-A264-E42A918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D8DAB-6655-4170-8FE9-9C8B779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85E12-20C0-4FCF-B448-F39B7D15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8E7C3-1548-43C0-A7BB-11C6320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56E6F-9795-4D7C-8C06-BD570D3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792F9-3F32-496C-8415-63FF0BC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9AF59-BA91-4C25-9604-ACAABD37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1ED4-6928-4047-A10B-9751ED4F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8192A-DC47-4933-B6AC-598A33B2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001DD-2AD5-4A8A-AD30-C63E0A2A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161-6ABE-4D92-A959-8F31924C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82B62-A1D1-4A21-B8C1-153AB7A8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69E43-AC1C-43BD-A7ED-3FF92A33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D5ABB-8531-4FC9-8946-954DC6A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98F77-EFBA-4848-90B4-75DF00B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9AA15-C067-4E13-964D-D27CC2B2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D265F-4D93-4EAD-AF5B-930054C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764FB-5A5A-425E-86CE-456B129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B6C93-46F9-40AC-81E8-2BAA5AF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6EDEF-D230-4237-B0F3-6A065FB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16FB3-3E8F-4363-A867-8AABF5A6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C56-9269-470A-9C03-1F1C0360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2E147-D679-484C-A661-FC6D3517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52647-B474-498A-B9C0-644D8F7B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18BB9-26DF-4E9B-9B8C-593C3848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2E6F7-836A-4CC2-9B37-8C48A78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5177E-0A61-4342-BF32-87194EC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5DDE4-7936-4B51-AAA7-838D4D0E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45074-E308-4781-A3C3-C7AB5C47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12F58-6E21-4D61-BED9-D81982A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1362-0820-42E0-ADF2-A4BFA8A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57470-3EBF-448D-A5A8-3A5D2C1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DD0-DBA5-470F-A186-1713E599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500C8-E797-4336-98E9-C55AC9E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7535-AA0F-4E7B-AC18-2B93A448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4FA8D-01FB-4347-B835-DDFB50E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BD932-FD6E-476F-A162-BB8FEAD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C1762-B1D1-4A6E-852A-F4468B7D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558B0-D770-4032-B1C0-56EC054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A1350-E7D7-433C-9123-03AE413F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59BE8-D8BD-4196-9FE0-10B03B2A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78181-456D-4948-9C11-EC3D0815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6936E-DC2B-4F7A-B921-2856B04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48AC-9EB9-4675-9067-302E84C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3F483-3676-4B53-BA7D-EE60720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F836F-3143-4767-8986-135EBCE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D4E3D-6B50-4E69-BE41-2C8F160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0B0CC-7A89-44B4-AB55-3DB27FF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6983B-A4CD-49E0-B3DB-8EA9F49B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6643-E86E-43AC-BFA2-5E48B07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91E5-F7B8-4744-B879-69D1B52D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50E-4415-43C9-AC05-C1A0A0C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BA9C-613E-4DA0-B62A-D9BBCE8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7568-63B1-4885-969B-CE0CA2D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019-C3BF-46D6-928B-5A7391C2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B1B7-F350-461B-A3DF-AEFC498A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F47-F133-44B7-A54A-0E82745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53C-C810-44B6-BD76-3DF8B84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38FC-2217-4482-85B4-2373F746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C60B-2226-4255-9D6E-3C9DE5C8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2B99-7BF7-4176-9E42-F9DCE750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DAEC-7017-4CC3-84D2-7C56293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11C1-DB99-4878-8EC5-C7E54736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2816-F27F-42AA-8F6E-C985B7CB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FBD8-4CE8-48F4-8D31-05156265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698-E452-4530-B32C-70AE263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CFD1-B178-42A3-9C09-B0F1129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07B9-C422-4B30-BBA5-2CF004C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CCCF-0239-4E87-9F90-175A3DE8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975A-95A4-4EE1-B743-5AB92DB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0791-69C4-44EB-9CD5-144BAF8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899B-B52D-49F1-953F-164079FD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DAC4-2E12-4D8B-9DE8-FD08A3DF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FF81-3F4E-4072-B044-9E9637A4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A364-C7EA-4664-92AC-1B22351C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BBDA-6464-4E71-84CF-2CA72928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8F6-818E-4724-86CD-6697ADD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A7DA-C31D-4EB4-A393-3D3ED4EB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D351-1471-470D-BFF0-B41982AD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845F-4BCE-4509-BE26-8AF14816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2C5E-DB0F-419B-9E91-3D67400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5875-B17A-4E48-80D6-5CB0F68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699C-F00E-422E-AB11-4FB9743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ADB63-306C-497E-8400-12F05E60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6ECE-5D26-4DD7-873B-6DC3477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399B-E970-4120-A466-DD6A3C09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8CCC-40A9-46B2-BC50-CFE3C296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E0A-D57C-4CEA-A7EA-4B0EB5A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8813-C549-457C-AA62-AC21858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3D53-C9BD-4C48-9E9C-D65C4DBC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74E9-5366-428F-9D47-E9BBCA8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3F71-DDB7-4E13-8A95-88F999B9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8084-4453-43A4-B043-1658CF51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9655-0BBD-44F4-82AD-5176CF3D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028D-0594-42C4-A683-8A2FAD4C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4A79-5D30-4729-B05A-9CB42AF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7811-45FA-47F4-959C-A8A5AD2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3A4D-157C-4088-A5EE-624F8C0B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E51-1764-46EE-90AB-7885DD43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7AE1-6935-48DD-BB0F-A169BBE5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9A0B0-831E-4D49-81E5-52C37682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E140-49E3-431D-8951-8A986284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B8308-31C3-45AC-90B1-2A86F190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8611-C0DA-49CC-B1FB-25C17A53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21AB-0ECD-4EB3-96F0-6C32D601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8447-A3A3-436B-8D8F-87062CA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E3DC-1186-4FBE-A2D8-EAA16D9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9274B-7C4F-4E31-84AD-6FC5E468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411D-A8AF-46CE-B5DB-486E048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ACE-4F51-41BB-B57B-6019F2B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44179-0F53-47B4-9767-09869B2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7055-D15B-4DEA-AEC8-0988B912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5873-F15D-471C-8DA6-21C8C176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7A12-007C-400B-821C-5AE808F7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3722-771C-4D73-AA1A-A06CB15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87B2-2578-4939-A89C-0BA1F09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A1CE-5989-4602-8E98-366908CB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52CC-0B04-4E9A-902E-35B12A0D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9E0E-667C-429A-867B-CB0A7F77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8D4D-6DFE-4997-8CA2-C85046D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FEB-8A16-484C-A060-81E0CC88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DDAE-01FE-4DB0-8715-765D581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3F48C-C306-429D-87DE-D3DF81E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EE63-A2E0-4E2B-A560-DB530EA8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BA3D-8C4B-4F5E-9B48-1BD283FD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DDFCA-CE92-4324-AD19-38CCF22A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40D3-D92F-4304-A7D4-4C0BED18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5820-032F-4CC3-BDEE-75CF8703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F264-EC86-4A2A-9090-F29D272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F9B9-54CE-4887-A263-F7F46ED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B046D-A206-4D8F-97DE-2EDCDDE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DD3-76BF-44A5-A01B-CDEC8D30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4A51-E407-4F58-84D5-BE85C5E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89B2-9D5D-4DB9-8545-63D6B62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BE613-B289-4908-B876-1BE50A1C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00C9-FDFF-4658-98C5-CE88F0FD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8419B-750D-4C3E-BB1C-BA4572D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4AC0-ADB7-449A-9917-F341F17C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C6AD4-54F6-4EC6-A65A-1231F100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05F67-64EC-41C4-92F1-97CC1576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40E7-7628-415F-8217-78958591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52D15-4A0E-4207-8E95-199115E7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007-E43A-4FEB-811A-D5F8A1A0744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951-3C7B-4290-B53A-D2D03575CA4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C7E-3D70-41CC-978B-CAB33B18338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23B3-19FA-477C-9D51-412771942F1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765E-B7BE-40AD-AA5B-1BC10FCAC84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8C83-B9B9-4B84-80E6-AAEC5224BC33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B617-3179-4B55-A04F-2F70A239360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444-ED2A-4998-A129-4A31E4468B2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267D-DD87-4BD3-8425-716511B429A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549D-316D-4D36-841A-BCE5C120099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40CE-30E9-4E49-B5AD-514986E0C69F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0B1-41F2-4140-A524-31DA5C712A0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医療安全講習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第一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医療安全アンケート調査報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薬局ヒヤリハット事例収集分析事業と医療安全の考え方につ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調剤過誤事例分析ツールの紹介（ＰＨＡＲＭ－２Ｅ分析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第二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調剤過誤事例分析の実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事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（テオフィリン）：散薬調剤の事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事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（ワーファリン）：一包化調剤の事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2F54-4CA7-410C-B1C5-63856502B1B7}" type="slidenum">
              <a:rPr b="0" lang="ja-JP" sz="1200" spc="-1" strike="noStrike">
                <a:solidFill>
                  <a:srgbClr val="898989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3:24:29Z</dcterms:created>
  <dc:creator>Administrator</dc:creator>
  <dc:description/>
  <dc:language>en-US</dc:language>
  <cp:lastModifiedBy>船橋薬剤師会</cp:lastModifiedBy>
  <dcterms:modified xsi:type="dcterms:W3CDTF">2013-03-04T06:54:10Z</dcterms:modified>
  <cp:revision>2</cp:revision>
  <dc:subject/>
  <dc:title>医療安全講習会</dc:title>
</cp:coreProperties>
</file>